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  <p:sldId id="278" r:id="rId55"/>
    <p:sldId id="279" r:id="rId56"/>
    <p:sldId id="280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slide" Target="slides/slide23.xml"/><Relationship Id="rId56" Type="http://schemas.openxmlformats.org/officeDocument/2006/relationships/slide" Target="slides/slide24.xml"/><Relationship Id="rId57" Type="http://schemas.openxmlformats.org/officeDocument/2006/relationships/slide" Target="slides/slide25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908D6-B14A-4C06-926B-E727773A13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0773-E1E0-49B2-959B-595A34CC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D8E10D-3E42-4006-BD0D-705C48F42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497D7E-7A56-4850-9E08-8C345FD98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EA5E9A-12FD-42F8-A960-228A0E8B5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F069E6-7B32-4507-BB14-E632D423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899157-B1D2-4FA9-A81D-07F4F03D3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72E3C8F-B3B3-4CF9-9263-9CA4417BD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9CF9FE-77A3-4AC9-BB2A-E59D116CC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00DC4A-1D6E-44C1-B44B-8F2E3000A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91992B-312A-4EDE-B84A-9849CFF37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8D87F8B-EF5C-418A-9D23-1BC0F3380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23F9-D2B6-4609-B622-B6A1596C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3D5BB9-1038-4E48-B27D-405E439E7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71C60C-EFE4-46CD-A372-2F9C37D1A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39D145-13B6-42F7-97EE-D08635F5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72E92F-D541-43C2-971D-637901917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0E1C47-1FAF-4097-892A-CAE64FAF58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0FB57B-1A7C-4EF8-94F6-7077AC7CF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70853-E072-4279-BEEE-04F3367B6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A1E33D-1AC5-480A-887A-E6287818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E8021C-9395-4CC4-A208-04A46DEE1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7568C71-EF2F-4AB9-BB1C-AEF9712123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9E65A-948C-40A9-AE9F-FA639788C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40FCDA-71E1-4A11-8AAC-3780FE4184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A01471-3E11-483E-A236-BB888D68FC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68D9D3-223E-43B5-B648-5BC817E6D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43F846-DFFB-4D08-81D3-FDAC261F6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07E9D7-4B57-4C77-BC0F-E6304D31F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59788A-9951-47EA-B283-F18C16B011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987C94-CF00-44E1-82E2-3C56AB717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2B20FC-E1A0-454E-B04F-B60B7468A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D9DFB5-4F6B-4383-8173-F3A5DB98A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79FAC3-9684-43A7-BAF7-318BE15B5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279FB-1D3E-46C2-A5BE-89997E624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3B5A4D4-0B66-4406-89C5-188D807D6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BFB0591-BCA0-4E5F-89DD-28E22EC17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953685-720B-4A44-B357-783E4595B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DD80C0F-C682-46F0-8E8C-F3D0536B7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FAD92-12FB-479F-8E1A-2730631FD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844E0F-5DBA-41B0-8F68-5DC34454B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6D92C6-A1AF-42D3-9859-A4B4F89DD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771F32C-A2A8-4C94-B5D8-934791C2D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850A559-B060-4FC7-BC84-348A1172C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A4F9E0-2B54-41BB-A966-0EDA7ACBF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61E64-2536-40C1-9339-8642163802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A310F82-DFD9-4200-A20B-6A2E91502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0EC8E-05D7-493A-AA01-619CDDF5A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3C4721F-2A08-4677-A85E-0B128888D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F1DDD5-CE74-406E-8C37-ACE7AD9F2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62B6A4-8D61-4719-ADAD-69A709354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30742F-F73E-4A12-93E0-336B9A551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793B815-5C8D-4377-828B-C332DBF94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0B811-DCF7-46BD-B2A2-C7C885D40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E7236AF-1DE7-49BD-BB94-C8E060993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2B886-1CFB-4C78-A620-AB054D62C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04697-AFF0-4CEC-B60B-82C866491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1CDCD-28F5-4032-B88C-64AC27717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3772B1-2976-48E1-A323-2B78C7162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1F7D95-4F8C-421E-82D0-26914D8F3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09CE6E-2113-4246-BAB3-D6E667436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E2F1EF-D5CA-41E7-9608-0254E3AA10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E04AB-1F7A-426E-B601-2531244546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AA0D909-53A0-4859-9D87-8CF5FD7B5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C08014-01A4-4465-93C6-A969469127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430C2B9-FF69-40A3-AF28-6E8E4AC4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F95587A-B04A-4421-8446-74438DCDF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75FF7-52AF-4B6D-83ED-779CEBA8D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61025B-D075-40D5-B387-0EDBB5F61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2C48A74-F933-416E-A53C-A60760462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B42C226-D987-4ECB-B1E3-5EC015C866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0E9523A-BE97-451A-9E2A-E05BAD7C2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D44CDBE-FFF2-426D-A282-289DE4F67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A4B46D-0F87-4FEC-A849-A8A60F869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42EFB1-66BA-4F24-BBBC-C19291CE9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922B689-7ADE-43E9-9D29-B48F0698EB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224AF6D-0203-4EF5-9722-1FAE7FF93F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2DFFA9-7952-451D-807B-B4AD16FBBD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FCFD2-044E-4D88-BEAC-612515DD5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C567726-09D5-443A-A9E1-BCC617E4A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5D691D5-EA75-4FB8-8CF5-AE52E92A7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CF57BA-3FE0-4DED-BA70-9706EB0FC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09D1B0D-8B4E-4647-8012-F6CDEB0C3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B37FD34-A422-41CB-B134-FCAF033A5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AE2A05-2351-4B68-911C-3A2F85AA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00A4CFE-E6B3-4900-97EF-3EB55E970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EEB8EED-D013-4686-A8A6-455F30432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AF5F79-A68E-4C0C-9D61-3B56F1E0C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974BCE-2D38-4DFB-ADFB-ECE896EE6D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4FF5C-618E-40DE-ABB2-627EF8423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BDE74C-FAF4-49AF-BA57-CC9DEB3CF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D5DAB1B-EC96-46DE-8E81-54625912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6E752B6-9CB1-4151-8FD4-F2E0AA9DC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4CA738E-1477-4CAD-AE29-B3F51ECA9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5571EF-2BC1-43AD-BABB-D03CE4617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BF5517-A0D0-4AE6-9F37-F8BB162F9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27455B-7D29-4624-B3AD-45AF28D43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C2D505-B7AB-4467-8CA1-D6311C13E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CD18CF7-3E62-4ECD-977E-3C00ED56D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C2F5D81-2E7E-47C9-B39E-F9247B1D5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38FA3-AC71-4407-9A24-F6177FE9E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4E0543-94C4-4AB2-AC44-D4A4664D8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861EE2-6F65-4EB1-A418-E28C3874C6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1179225-8E2A-4769-ABF9-03EEE05FDD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E44167-D584-48C3-8B9D-AD187B9E53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17024A-5EF5-4674-84C4-BA6597082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FE0203-0C57-48CB-ACDF-F0AA6C54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A154E4-7489-4FCC-98A9-A12C61520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C94612-43DB-4F3F-BCF6-4CB4F611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245CC1-C197-4F79-963D-27A03115D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03817D-7874-41CF-8F22-305FFC074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C9F2-734C-479D-A841-C29408C3A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B643C-3077-45ED-84E7-5DEBFD2B9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13EDE0-3502-40F6-8C99-998E6CB1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3FD5D77-2721-47E2-925E-DEE24B67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21A00C8-7EF7-4BCC-A161-5D4457260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1C04D62-F0F8-4156-9FD7-BB6FF12867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116CC82-E8F7-43A3-8E8B-874DFED25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23393E3-B273-4804-8DA4-A6FF57B71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71503C6-2288-49F6-AC7B-FB029212C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390A664-2227-4973-845D-3B83E25ED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AD0C9F1-8F4C-46A1-B995-0F3D896BE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1B4653-648A-4626-B88B-4CA26D72A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B8046-E6E4-41B6-8824-C07C2FA97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97A855-223C-4DBC-8AC8-D5BDCC9BA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139A09-52BF-4971-8EF6-0F6509250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2FE016-0816-4DFE-BD75-63B4742F8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C51C0C-8A48-481B-B0EA-542B4CC5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D817948-FDF6-4425-BEEE-425C4BF9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D795A7-6908-4468-AA0C-205DFBCE7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C91BF50-C9BE-4C97-AA98-84DE03047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1212285-747D-4C89-AD79-CB6E458009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54270-9B33-40AF-8626-00C8B028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552F4F7-B3F6-49EF-98BB-A9A2C7419F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D026F-E76C-4B14-AC7B-E52DC23FB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9EC167B-3766-47CA-83FF-E15B0929C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613CA6-85C0-4E3B-A95F-D6C5BC1E79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2B274C-4E9E-4184-843A-BEE59FAA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09F170-414A-46FD-A0B4-5F5B7D140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7B820E-6C93-46E8-AC25-4D3138C6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C203A1D-FFBB-4FFF-BFC8-3666A55F3D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7CE3CF3-B0AC-4193-BE87-74BD3A0C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019CC0B-D594-44B5-A660-37024188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2045600-662E-44C8-B42E-08065787D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B87D87C-8AD8-47B3-9A4F-8E4F23BD5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C1CF65-BD1F-4797-925C-2503A6953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F22BE4E-BD4F-481C-BB16-976945643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F290E5-B247-4DA3-BA2E-32BD58AEF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3AAC30-635C-47A6-B6C4-0B13DAFD2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CEF77DB-3205-4B7A-96B4-2FBEB430C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6E4CD05-0DB2-41B9-93AE-29E182BE7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E3CB02-D7A2-435F-B8ED-714858784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17FED9C-EEFE-484E-9337-1743B88C2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32769F7-9BC4-41FD-AA1F-A8AC5C2AA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41483F3-518D-490D-89BB-4B420E98B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E3589C8-6D34-4E00-A339-45DA282AC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61AAE-FBA9-456B-A8FF-49A736F4CE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E85FAA-D9D5-4914-95F2-192381FFD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CC33DEB-5ACD-4294-88B0-B492D6BAF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A947B37-7A1D-413C-BA42-69330BB0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1375BA-1011-4B94-8CE0-7B273722EF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A1360B-0C68-44FE-920F-F30C37D86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532C2F-E740-4D4E-A50B-94FBC60723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FD5E052-D51A-4B04-9540-965FEDF55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91B1D2E-BA29-4F51-AC28-8365F9678D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5405BA5-CDE7-40C4-B7D4-CCE03D386B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3A35E70-856D-4440-AE08-002A72594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2611AEE-1870-4652-81BF-072AD2EAA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36D092F-51BE-4401-A898-5F0D571ED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F598F7C-69DF-4111-A392-991262EC9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5D7671-ADE0-4437-BF49-0D161EE3A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3FD0CBB-24B7-4532-A387-B8D7C6C7C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92FBC0-2839-415D-BF36-2FF937B4C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0352EF-BEDA-49CE-ACFF-9C6563FBB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CD1701-628A-40F1-A791-462C732EEB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92E39B-F618-4BD2-A3B5-27135357A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367422-4B86-4799-9BB0-62AFDFB38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DBE901-8A50-49B8-B970-768AB3EFB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06BD2A7-2590-48DB-8BE9-151218350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5560C5-9AFA-4080-B9E6-3D1CF981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0322076-3B1C-4417-B20B-C43C6B747A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3993583-9C11-42DB-B5AD-0459AA3CD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AE03E64-8DEB-4439-A473-B3AB337FF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213AE2F-4395-4266-A3DD-A796D86AB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DA84B41-4DC9-470F-933C-DF87F5F4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DEDFFE-9BC1-44DD-AE49-A8E9D8773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A630BCA-E301-4823-BC00-7140E11A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CFF327-6558-4A4C-A370-FD472C892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6447A47-D819-4916-A46C-DF42575AE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938220B-4F36-4FC9-8617-2A80B32D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D098817-2D78-4A0E-911F-615823E07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3199B63-3A40-48BC-9189-4028F7BEA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B18D23B-FE7F-4F95-AA16-35A2F8271A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F829D1E-C702-42E5-91E0-1C5AFA0AD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3DFF527-4849-4A6F-B01B-9858032E00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0DBFF56-57D4-4D18-96E0-C2538B0A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EC5450-6A3E-48F7-9A2F-C97C65E4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5926CFD-61F6-47A5-B5A7-E4FBF42CD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2D62AF-5627-486A-BF94-74356ABFA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27E982-B3E3-40D2-9AC0-F97FDC817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22436CF-65C7-4E36-8E3A-E60B46581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037C089-5268-4A27-8F65-45B2F926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3E343AA-5EA4-4332-9803-5A27622F4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41D3E2-73F0-4F7F-9E26-A03484265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43629C-72AB-4F5D-A65E-0856E992A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A85BA41-20C9-4D21-B3D2-7B2687EBC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85CD13E-4F49-40FA-8DC5-BE6DA7DD9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8593710-0BF1-484B-8968-C7A3C399E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60C596C-8983-4BCD-A67C-3E40B50C50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450C445-BFC6-4719-96F7-B3154AC93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40B219-3996-426D-A2EE-372CD8C9C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58B84E2-983A-47E4-A0D0-DB86B0DB5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7987EC-F80A-4209-81B0-C347FC30A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2D4ECD-DB58-451F-9FAD-EBE7E562E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AAFA381-F55B-4FD9-812C-4FFF0074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FB1581-13C7-45AA-9A53-D5DBC681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3DC448A-182E-4E3F-AC1A-197084DD8A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7E4A-03D9-40C0-9258-092229205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48F70B-EF6D-464F-9E7D-1ABFBECFC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D221BDF-90D2-4E26-A7A9-4214BE984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312D441-126A-4DD1-A9E5-B66499D1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70ACF36-1863-4FC7-BEF3-163077FDB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8066789-BDA6-4B91-8C12-4B2EF089A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4D0BE38-68B9-456E-B843-82328CB40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4901F4-D729-4E8A-9064-9FAE4C484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91DCD2-5D3B-49E5-BDDA-98924526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0890745-609D-4FFF-BCD5-61F1E7D06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9EA214-9D24-4F58-9DDB-1F2C4F557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3770E3C-3188-4D63-9042-6FF636823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C888549-BA10-468D-802F-E94168844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4A89319-A2D4-44EE-916F-C17D76525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71C2E62-039A-4094-9C06-5A4760EFE1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20D8E9-D6A7-4BC4-9381-1B023F152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12B7B63-3B27-4ADC-8A77-4D05390B3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3BDF1BF-9064-4BCB-BE45-4F6F87675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2D89ADD-5335-42EF-9DAB-30B2AD1E2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1C7FB71-9A7B-4AA6-954A-6343F69C93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5BEC7EF-5A7D-4685-B985-F4AF6F0DD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85122FD-E5C1-4C84-8194-6C74BF319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3903E42-3EB6-42C9-8F64-799EA0D88A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A91C27A-B5A1-4E0C-A781-6175F74AB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48A955B-60BE-4946-BBA8-4649FA86C8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89A1CB6-6EB0-4746-A25E-C15AC9D3E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2B2402-5FE6-45C6-8AF9-150156BA9C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E9E4E07-9568-4DE5-86C6-044A71FC3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27FF15-B678-432E-8EC5-904568E75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24E9CF8-3D28-41C4-9690-FE5ECB8A3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BB63729-8F5A-40F4-B886-724675EF1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284D830-CC01-406C-9644-413CDDE6B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C89AF0B-C244-4353-BF56-8540BF209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5D1994-F164-4A30-BFDE-94447B39B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A85965E5-9920-4173-949D-73F248487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D8C22C5-DACD-4FBA-86B5-964E7E55E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C06E76D-A169-415D-9B62-71B64B9F57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1A9F9A9-E0CE-4B51-9B47-854303107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F9F9891-1A60-4D38-AD98-B0F7B8182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32C07F-D65A-473C-9E16-FA21C1509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0036A18-3C41-40F6-8D47-DE931C423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E4C357-CB52-4796-AB14-6A72BE1BA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D8E8041-4950-4612-B47B-4BD10DCBB3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807B03E-F670-4575-9837-29C6BEC7D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01D8B6D-4603-4598-9A91-CA346B97D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C7C9CBB-AE28-4074-882E-5EFFCBF8F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B5523C0-C42E-49BD-BC35-7D636C103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3BE84AAC-AB0B-4D27-9B1F-2DA05E440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EE3F1E-90D0-456D-ADFE-1217D4D52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961A10-9FCE-42FF-AA40-E5279480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F721A49-78D3-4994-8263-3A6D12F9E9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8FFD526-80AD-430F-A5EA-3A61E66E22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7FF3AD2-5547-438F-A77B-725AB88DC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F19E52-A139-4434-9AC1-03D9E923F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66B2CB-BBBF-40B7-91F2-9FA0EBDE8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3490CAC-1D6E-4F64-96E8-A599AF5E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7779B59-3E9B-473B-81A3-117497AC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FA91394-BDCE-4793-9EDE-17C4B639E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F3C801C-8AB3-4A87-9882-EDD5D5829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C9B357F-CBDD-4186-B0D6-FD47B4950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FBD47B2-4538-43E3-850C-7B11CDC83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16A406B-0473-4852-A95C-D41FA7AC9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29A33EFE-6B59-431E-8902-FA0D5467B3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FB3758C-57DB-46CE-9617-B386FAF85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E39FEC4-D56D-4C86-B0A0-4BF636174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3924C92-0B0B-4F34-B944-9144B3E2E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E5A6252-9D9D-40FD-B87D-D86529ED0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9754E8E-F0DE-4582-95CF-2797A1C5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AC07AF0-BC12-40F2-A78E-497DEC34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2AEB120-A82E-4E41-9042-B847F8265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F0DA9C4-6D6E-4823-84E9-D223022F8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3A6CAE-B8F9-40A4-BC8D-D758CB6306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DC07B4-64C4-41E5-B2DA-FDCD0B9F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19EE4CA-4E10-4338-AF98-FA6844CD9A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BBB266B-0732-4E57-A789-2427530C7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DFF7E8-E921-489E-B38D-21CE5BA6A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4F5A18-9C6E-4E7C-81E4-2BAD169D3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A6E17-EFA0-486E-9499-CD9FB28E5D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A6F018-DC33-4549-84DE-4A62643B9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F648EB-A80E-4513-9F6C-E5A7D0EC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C9168B5-1966-4A95-89EC-628CB5703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577CED-DB32-42ED-BB7C-D672A4FDE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F76A45-6587-4E9E-87A2-DA978ECF3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4EC41E-4DE4-4804-BE99-5DAAC7241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C7B72-96BD-4855-A79A-11533314A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52190-3841-42EF-B3AD-4FDF6654B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6B5F7-B1E1-467C-ABCD-1C5435DD38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456BA8-D088-41ED-AC7E-C681779A7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6BF6B-CE99-4FCE-A879-B76F006B8A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1D5D11-A6DE-4BF3-9DE8-C2148BBDE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779991-540C-4859-A4DA-1D711099F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334B9-07F9-4990-ABF9-58F18CF0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1DE9A-A4EF-4E32-AE8E-210C4EAD0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60C79D-C8C3-466F-BDC8-07AA36620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85AC84-FBC6-465A-AD1E-5BAADF357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99F2E8-A951-4FB2-A1C6-FA824844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2A7296-D530-44D3-81A2-B1666D559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835722-6D52-4494-AB4E-59509A0F6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918109-C545-426D-87A6-A31FD0466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A898-9E20-4CD6-82C9-3F12C08B07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932325-82FE-4D81-8524-C8992D2EA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4354AE-A0A8-4EDF-A65E-50764AE899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112645E-F8EF-4BA7-99CD-A7AE65862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17DB7E-7BBB-4609-9360-4F4442CF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AC6BCF-C534-4AE5-905A-1737EB1E5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B7749-4856-455D-A226-4702D80AF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5ED29-0FA1-407B-9E59-BE9DC8F57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576E8A-AE6C-4134-9655-6D2967818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28E6E4-0A65-4186-93CB-98EAE46C8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1D84560-2035-428E-85AA-7CC372239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5F40-DE1F-4E59-B01D-80425F5EC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B4D399-5BDE-4BC3-A9E1-4C328230AD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6B4591D-9442-4B9F-A7C3-5C64B4515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40B8A5-A96E-4C5C-9763-2ED124AEA9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FC42D4-C038-47F1-9B3C-E9C442C76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F08874-0907-4B34-BC5E-B796E7C6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98FE6D-3152-4084-9C1B-65D032F71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8D65EC-1E0E-47C1-B861-B486A2DF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71F3D0F-8A6C-44D8-BE1F-DB5FE4FBED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260B2-7A1E-45EF-8B3B-6B0CB75CC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C593F-39AD-4407-9A6E-45C91A9D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FEF15-B9A2-46EA-9612-01F8686B7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2FBF0-AF99-4B18-9712-5D0EE5186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4DF39E-4A55-4F0F-B14F-68CF761C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ED8342E-79BA-4A39-A9B7-659A44EB9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D5C75F-6B3F-4233-A6CA-D847399B1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2F9E98-CBDC-4909-8601-0EB750CCF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0A7433-3C10-494D-9F4D-4A98C8E40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CBCC15-EDD7-4352-B5E8-8B9719958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8867EA8-AA32-4AA5-935A-38BF26286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534948-C493-4555-B2F6-7361CA757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B25099-8431-4F66-9E49-33E4D95F6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39D59-F67C-4EA8-B7F1-41C435BAF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127F2D-290E-4FBB-9FB6-7ACA43ED1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7F56CBF-DDFC-46E3-9DE2-085E735E0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3917CA-2551-475E-AB6F-F8AE62868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BF8897-B927-451F-BE9D-30EDE43C2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28DB87-C8CB-47A6-88D4-421C63EDD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89CDE-8F4D-48D1-B665-E7008AE23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F651AD-52FA-44EC-B965-50336BDCC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BE3347-4895-4931-B7D7-9E8778A92D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A47854C-1C5F-479D-B325-391BC233C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26909F-B375-420B-80F1-E92D7378D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2A497-EA55-4DE4-BC60-23C39C9181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09137-99E8-46EA-8684-508D6488D8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6A765-43C7-4389-AC01-D2950D680A4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1D29F6-6FFA-4F2B-ACF1-10B46C07630E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26D8-31C7-4DDF-B3F0-B1C372EA2E8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5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6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7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38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9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1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3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4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20424-2F49-4927-9CF9-08A5F002443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EDC6E-256C-430D-8A0A-4F215D30518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9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9B4DC-C879-43F4-83DC-773EDEAA0BC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73EFB-FEF6-4040-808D-84C6812945E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2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3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4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5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6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7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0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1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3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4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E4E13-6870-41E7-AAC1-263A2039B8D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6CAF6-514E-4431-8DBF-CD8146ED98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57748-9B7D-4F43-A801-2CDCDDFBC4B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CDD21A-7385-408A-9219-E0059283A6E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0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A75374-F7DD-4309-ADFF-FBE682711DB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5BB15F-4D15-47E3-8561-56D38770E76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4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5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77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8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9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0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1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3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4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6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797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798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799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3BC5D-624E-480A-A407-0512E31D48A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4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4991E-C2B9-4923-A31E-1C80DE2D77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10F33-6685-4330-8681-73F3672A2A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B61ABF-DAAF-4BDE-B5AB-114556EC29C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CA17-EA58-4856-BA62-20A7A147997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20671-D97B-4961-A6D3-C8AC3557737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4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F5403-92BD-4A00-9A3E-B97C9CB57A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ACA17-02E5-4BC0-9C9B-2DB41E16B6D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0C7FB-60D5-4380-B789-F141340C045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11384-E1B8-4C21-9D23-AC640886E55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8E72-B88C-4100-AD02-7023C5636CB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D602B-41C8-4874-91D8-AB32F861919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4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5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6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17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18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19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0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1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2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3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4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5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0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1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F8398-D91E-4712-BAC9-9FAFF0008C7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E0CAB-C70F-4CA2-B421-2C1B2299DCF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6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77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78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9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0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1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3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4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6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3A83C-31A2-4288-A190-A267894AD25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04B869-FA15-4555-84A7-851FBF91A4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9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F6B3D-01FA-4CE8-A34D-E885485FEA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5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82B25-1712-493A-AC49-C2B303275C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5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6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7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1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2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4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7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60FE4-F9CD-48F3-AB15-B7CBEF54D5B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5AC8C-1E48-4651-8FA5-AAFEF8FEEE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8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191BD-1E65-457C-AD50-553FE4C5CF2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A26C2-FC12-407B-A268-89E3953A70E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2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3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4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5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6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77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78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EED51-FFBE-4DF8-A419-09EF0CB0CFE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54350-10F0-46A9-927E-FE17640CDB8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图片 3078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020000" y="115920"/>
            <a:ext cx="1944720" cy="64764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3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4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7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6859A-93AE-4E62-82D2-A1B893D1F9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9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2D271-1683-4859-BB8B-BFB947D76E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8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69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0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1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2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3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4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5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6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77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78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79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0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1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2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4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5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7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6DEEA-E3CA-425A-B6B5-E6D841A56E1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1DD22-D87D-42B8-86D6-22EE4E4AB2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2D180-2D11-4C38-852C-4627C6C644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B405B-5C22-45BA-A7D9-C7D71BBE665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A8207-B147-4950-A0E5-AED3A2EA115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BF48D-41D2-483E-B8E0-DB1568C77B5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E1843-58E6-4DD1-8723-8D37A67C04E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887F0-3D84-41AE-8FCC-468C30AB847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5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5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431" name="图片 2051" descr=""/>
          <p:cNvPicPr/>
          <p:nvPr/>
        </p:nvPicPr>
        <p:blipFill>
          <a:blip r:embed="rId1"/>
          <a:stretch/>
        </p:blipFill>
        <p:spPr>
          <a:xfrm>
            <a:off x="390600" y="2928960"/>
            <a:ext cx="8362800" cy="100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478" name="图片 13313" descr=""/>
          <p:cNvPicPr/>
          <p:nvPr/>
        </p:nvPicPr>
        <p:blipFill>
          <a:blip r:embed="rId1"/>
          <a:stretch/>
        </p:blipFill>
        <p:spPr>
          <a:xfrm>
            <a:off x="1076400" y="1790640"/>
            <a:ext cx="6991200" cy="3276720"/>
          </a:xfrm>
          <a:prstGeom prst="rect">
            <a:avLst/>
          </a:prstGeom>
          <a:ln w="0">
            <a:noFill/>
          </a:ln>
        </p:spPr>
      </p:pic>
      <p:pic>
        <p:nvPicPr>
          <p:cNvPr id="1479" name="Picture 1" descr=""/>
          <p:cNvPicPr/>
          <p:nvPr/>
        </p:nvPicPr>
        <p:blipFill>
          <a:blip r:embed="rId2"/>
          <a:stretch/>
        </p:blipFill>
        <p:spPr>
          <a:xfrm>
            <a:off x="1476360" y="1916280"/>
            <a:ext cx="57636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2" dur="5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48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482" name="图片 14337" descr=""/>
          <p:cNvPicPr/>
          <p:nvPr/>
        </p:nvPicPr>
        <p:blipFill>
          <a:blip r:embed="rId1"/>
          <a:stretch/>
        </p:blipFill>
        <p:spPr>
          <a:xfrm>
            <a:off x="123840" y="795240"/>
            <a:ext cx="8896320" cy="5658120"/>
          </a:xfrm>
          <a:prstGeom prst="rect">
            <a:avLst/>
          </a:prstGeom>
          <a:ln w="0">
            <a:noFill/>
          </a:ln>
        </p:spPr>
      </p:pic>
      <p:pic>
        <p:nvPicPr>
          <p:cNvPr id="1483" name="Picture 1" descr=""/>
          <p:cNvPicPr/>
          <p:nvPr/>
        </p:nvPicPr>
        <p:blipFill>
          <a:blip r:embed="rId2"/>
          <a:stretch/>
        </p:blipFill>
        <p:spPr>
          <a:xfrm>
            <a:off x="4140360" y="3429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1" descr=""/>
          <p:cNvPicPr/>
          <p:nvPr/>
        </p:nvPicPr>
        <p:blipFill>
          <a:blip r:embed="rId3"/>
          <a:stretch/>
        </p:blipFill>
        <p:spPr>
          <a:xfrm>
            <a:off x="3203640" y="42782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485" name="Picture 1" descr=""/>
          <p:cNvPicPr/>
          <p:nvPr/>
        </p:nvPicPr>
        <p:blipFill>
          <a:blip r:embed="rId4"/>
          <a:stretch/>
        </p:blipFill>
        <p:spPr>
          <a:xfrm>
            <a:off x="5148360" y="509904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486" name="Picture 1" descr=""/>
          <p:cNvPicPr/>
          <p:nvPr/>
        </p:nvPicPr>
        <p:blipFill>
          <a:blip r:embed="rId5"/>
          <a:stretch/>
        </p:blipFill>
        <p:spPr>
          <a:xfrm>
            <a:off x="8101080" y="51134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9" dur="500"/>
                                        <p:tgtEl>
                                          <p:spTgt spid="14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4" dur="5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9" dur="5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4" dur="5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489" name="图片 15361" descr=""/>
          <p:cNvPicPr/>
          <p:nvPr/>
        </p:nvPicPr>
        <p:blipFill>
          <a:blip r:embed="rId1"/>
          <a:stretch/>
        </p:blipFill>
        <p:spPr>
          <a:xfrm>
            <a:off x="1238400" y="2614680"/>
            <a:ext cx="6667200" cy="1628640"/>
          </a:xfrm>
          <a:prstGeom prst="rect">
            <a:avLst/>
          </a:prstGeom>
          <a:ln w="0">
            <a:noFill/>
          </a:ln>
        </p:spPr>
      </p:pic>
      <p:pic>
        <p:nvPicPr>
          <p:cNvPr id="1490" name="Picture 1" descr=""/>
          <p:cNvPicPr/>
          <p:nvPr/>
        </p:nvPicPr>
        <p:blipFill>
          <a:blip r:embed="rId2"/>
          <a:stretch/>
        </p:blipFill>
        <p:spPr>
          <a:xfrm>
            <a:off x="4500720" y="278136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491" name="Picture 1" descr=""/>
          <p:cNvPicPr/>
          <p:nvPr/>
        </p:nvPicPr>
        <p:blipFill>
          <a:blip r:embed="rId3"/>
          <a:stretch/>
        </p:blipFill>
        <p:spPr>
          <a:xfrm>
            <a:off x="4211640" y="3616200"/>
            <a:ext cx="1152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1" dur="5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6" dur="5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494" name="图片 16385" descr=""/>
          <p:cNvPicPr/>
          <p:nvPr/>
        </p:nvPicPr>
        <p:blipFill>
          <a:blip r:embed="rId1"/>
          <a:stretch/>
        </p:blipFill>
        <p:spPr>
          <a:xfrm>
            <a:off x="109440" y="846000"/>
            <a:ext cx="8925120" cy="5391360"/>
          </a:xfrm>
          <a:prstGeom prst="rect">
            <a:avLst/>
          </a:prstGeom>
          <a:ln w="0">
            <a:noFill/>
          </a:ln>
        </p:spPr>
      </p:pic>
      <p:pic>
        <p:nvPicPr>
          <p:cNvPr id="1495" name="Picture 1" descr=""/>
          <p:cNvPicPr/>
          <p:nvPr/>
        </p:nvPicPr>
        <p:blipFill>
          <a:blip r:embed="rId2"/>
          <a:stretch/>
        </p:blipFill>
        <p:spPr>
          <a:xfrm>
            <a:off x="4802040" y="2075040"/>
            <a:ext cx="576360" cy="448920"/>
          </a:xfrm>
          <a:prstGeom prst="rect">
            <a:avLst/>
          </a:prstGeom>
          <a:ln w="0">
            <a:noFill/>
          </a:ln>
        </p:spPr>
      </p:pic>
      <p:pic>
        <p:nvPicPr>
          <p:cNvPr id="1496" name="Picture 1" descr=""/>
          <p:cNvPicPr/>
          <p:nvPr/>
        </p:nvPicPr>
        <p:blipFill>
          <a:blip r:embed="rId3"/>
          <a:stretch/>
        </p:blipFill>
        <p:spPr>
          <a:xfrm>
            <a:off x="1403280" y="2924280"/>
            <a:ext cx="1152720" cy="449280"/>
          </a:xfrm>
          <a:prstGeom prst="rect">
            <a:avLst/>
          </a:prstGeom>
          <a:ln w="0">
            <a:noFill/>
          </a:ln>
        </p:spPr>
      </p:pic>
      <p:pic>
        <p:nvPicPr>
          <p:cNvPr id="1497" name="Picture 1" descr=""/>
          <p:cNvPicPr/>
          <p:nvPr/>
        </p:nvPicPr>
        <p:blipFill>
          <a:blip r:embed="rId4"/>
          <a:stretch/>
        </p:blipFill>
        <p:spPr>
          <a:xfrm>
            <a:off x="5219640" y="4826160"/>
            <a:ext cx="1297080" cy="449280"/>
          </a:xfrm>
          <a:prstGeom prst="rect">
            <a:avLst/>
          </a:prstGeom>
          <a:ln w="0">
            <a:noFill/>
          </a:ln>
        </p:spPr>
      </p:pic>
      <p:pic>
        <p:nvPicPr>
          <p:cNvPr id="1498" name="Picture 1" descr=""/>
          <p:cNvPicPr/>
          <p:nvPr/>
        </p:nvPicPr>
        <p:blipFill>
          <a:blip r:embed="rId5"/>
          <a:stretch/>
        </p:blipFill>
        <p:spPr>
          <a:xfrm>
            <a:off x="1908000" y="5675400"/>
            <a:ext cx="115272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7" dur="500"/>
                                        <p:tgtEl>
                                          <p:spTgt spid="1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2" dur="5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6" dur="5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501" name="图片 17409" descr=""/>
          <p:cNvPicPr/>
          <p:nvPr/>
        </p:nvPicPr>
        <p:blipFill>
          <a:blip r:embed="rId1"/>
          <a:stretch/>
        </p:blipFill>
        <p:spPr>
          <a:xfrm>
            <a:off x="414360" y="836640"/>
            <a:ext cx="8315280" cy="1838160"/>
          </a:xfrm>
          <a:prstGeom prst="rect">
            <a:avLst/>
          </a:prstGeom>
          <a:ln w="0">
            <a:noFill/>
          </a:ln>
        </p:spPr>
      </p:pic>
      <p:pic>
        <p:nvPicPr>
          <p:cNvPr id="1502" name="图片 17410" descr=""/>
          <p:cNvPicPr/>
          <p:nvPr/>
        </p:nvPicPr>
        <p:blipFill>
          <a:blip r:embed="rId2"/>
          <a:stretch/>
        </p:blipFill>
        <p:spPr>
          <a:xfrm>
            <a:off x="409680" y="3132000"/>
            <a:ext cx="8324640" cy="3105360"/>
          </a:xfrm>
          <a:prstGeom prst="rect">
            <a:avLst/>
          </a:prstGeom>
          <a:ln w="0">
            <a:noFill/>
          </a:ln>
        </p:spPr>
      </p:pic>
      <p:pic>
        <p:nvPicPr>
          <p:cNvPr id="1503" name="Picture 1" descr=""/>
          <p:cNvPicPr/>
          <p:nvPr/>
        </p:nvPicPr>
        <p:blipFill>
          <a:blip r:embed="rId3"/>
          <a:stretch/>
        </p:blipFill>
        <p:spPr>
          <a:xfrm>
            <a:off x="5076720" y="1066680"/>
            <a:ext cx="1079640" cy="449280"/>
          </a:xfrm>
          <a:prstGeom prst="rect">
            <a:avLst/>
          </a:prstGeom>
          <a:ln w="0">
            <a:noFill/>
          </a:ln>
        </p:spPr>
      </p:pic>
      <p:pic>
        <p:nvPicPr>
          <p:cNvPr id="1504" name="Picture 1" descr=""/>
          <p:cNvPicPr/>
          <p:nvPr/>
        </p:nvPicPr>
        <p:blipFill>
          <a:blip r:embed="rId4"/>
          <a:stretch/>
        </p:blipFill>
        <p:spPr>
          <a:xfrm>
            <a:off x="1258920" y="1930320"/>
            <a:ext cx="1079640" cy="449280"/>
          </a:xfrm>
          <a:prstGeom prst="rect">
            <a:avLst/>
          </a:prstGeom>
          <a:ln w="0">
            <a:noFill/>
          </a:ln>
        </p:spPr>
      </p:pic>
      <p:pic>
        <p:nvPicPr>
          <p:cNvPr id="1505" name="Picture 1" descr=""/>
          <p:cNvPicPr/>
          <p:nvPr/>
        </p:nvPicPr>
        <p:blipFill>
          <a:blip r:embed="rId5"/>
          <a:stretch/>
        </p:blipFill>
        <p:spPr>
          <a:xfrm>
            <a:off x="3635280" y="1930320"/>
            <a:ext cx="1079640" cy="449280"/>
          </a:xfrm>
          <a:prstGeom prst="rect">
            <a:avLst/>
          </a:prstGeom>
          <a:ln w="0">
            <a:noFill/>
          </a:ln>
        </p:spPr>
      </p:pic>
      <p:pic>
        <p:nvPicPr>
          <p:cNvPr id="1506" name="Picture 1" descr=""/>
          <p:cNvPicPr/>
          <p:nvPr/>
        </p:nvPicPr>
        <p:blipFill>
          <a:blip r:embed="rId6"/>
          <a:stretch/>
        </p:blipFill>
        <p:spPr>
          <a:xfrm>
            <a:off x="3780000" y="4753080"/>
            <a:ext cx="2232000" cy="449280"/>
          </a:xfrm>
          <a:prstGeom prst="rect">
            <a:avLst/>
          </a:prstGeom>
          <a:ln w="0">
            <a:noFill/>
          </a:ln>
        </p:spPr>
      </p:pic>
      <p:pic>
        <p:nvPicPr>
          <p:cNvPr id="1507" name="Picture 1" descr=""/>
          <p:cNvPicPr/>
          <p:nvPr/>
        </p:nvPicPr>
        <p:blipFill>
          <a:blip r:embed="rId7"/>
          <a:stretch/>
        </p:blipFill>
        <p:spPr>
          <a:xfrm>
            <a:off x="1403280" y="5603760"/>
            <a:ext cx="1079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5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5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500"/>
                                        <p:tgtEl>
                                          <p:spTgt spid="1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5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dur="indefinite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1" dur="5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50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510" name="图片 19457" descr=""/>
          <p:cNvPicPr/>
          <p:nvPr/>
        </p:nvPicPr>
        <p:blipFill>
          <a:blip r:embed="rId1"/>
          <a:stretch/>
        </p:blipFill>
        <p:spPr>
          <a:xfrm>
            <a:off x="423720" y="1833480"/>
            <a:ext cx="8296560" cy="3191040"/>
          </a:xfrm>
          <a:prstGeom prst="rect">
            <a:avLst/>
          </a:prstGeom>
          <a:ln w="0">
            <a:noFill/>
          </a:ln>
        </p:spPr>
      </p:pic>
      <p:pic>
        <p:nvPicPr>
          <p:cNvPr id="1511" name="Picture 1" descr=""/>
          <p:cNvPicPr/>
          <p:nvPr/>
        </p:nvPicPr>
        <p:blipFill>
          <a:blip r:embed="rId2"/>
          <a:stretch/>
        </p:blipFill>
        <p:spPr>
          <a:xfrm>
            <a:off x="1547640" y="3616200"/>
            <a:ext cx="2953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8" dur="5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51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514" name="图片 5121" descr=""/>
          <p:cNvPicPr/>
          <p:nvPr/>
        </p:nvPicPr>
        <p:blipFill>
          <a:blip r:embed="rId1"/>
          <a:stretch/>
        </p:blipFill>
        <p:spPr>
          <a:xfrm>
            <a:off x="876240" y="876240"/>
            <a:ext cx="7391520" cy="5105520"/>
          </a:xfrm>
          <a:prstGeom prst="rect">
            <a:avLst/>
          </a:prstGeom>
          <a:ln w="0">
            <a:noFill/>
          </a:ln>
        </p:spPr>
      </p:pic>
      <p:pic>
        <p:nvPicPr>
          <p:cNvPr id="1515" name="Picture 1" descr=""/>
          <p:cNvPicPr/>
          <p:nvPr/>
        </p:nvPicPr>
        <p:blipFill>
          <a:blip r:embed="rId2"/>
          <a:stretch/>
        </p:blipFill>
        <p:spPr>
          <a:xfrm>
            <a:off x="1979640" y="1916280"/>
            <a:ext cx="576360" cy="448920"/>
          </a:xfrm>
          <a:prstGeom prst="rect">
            <a:avLst/>
          </a:prstGeom>
          <a:ln w="0">
            <a:noFill/>
          </a:ln>
        </p:spPr>
      </p:pic>
      <p:pic>
        <p:nvPicPr>
          <p:cNvPr id="1516" name="Picture 1" descr=""/>
          <p:cNvPicPr/>
          <p:nvPr/>
        </p:nvPicPr>
        <p:blipFill>
          <a:blip r:embed="rId3"/>
          <a:stretch/>
        </p:blipFill>
        <p:spPr>
          <a:xfrm>
            <a:off x="1979640" y="2781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517" name="Picture 1" descr=""/>
          <p:cNvPicPr/>
          <p:nvPr/>
        </p:nvPicPr>
        <p:blipFill>
          <a:blip r:embed="rId4"/>
          <a:stretch/>
        </p:blipFill>
        <p:spPr>
          <a:xfrm>
            <a:off x="1908000" y="3573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518" name="Picture 1" descr=""/>
          <p:cNvPicPr/>
          <p:nvPr/>
        </p:nvPicPr>
        <p:blipFill>
          <a:blip r:embed="rId5"/>
          <a:stretch/>
        </p:blipFill>
        <p:spPr>
          <a:xfrm>
            <a:off x="1979640" y="4437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519" name="Picture 1" descr=""/>
          <p:cNvPicPr/>
          <p:nvPr/>
        </p:nvPicPr>
        <p:blipFill>
          <a:blip r:embed="rId6"/>
          <a:stretch/>
        </p:blipFill>
        <p:spPr>
          <a:xfrm>
            <a:off x="1979640" y="53006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5" dur="5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0" dur="5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0" dur="5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5" dur="5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522" name="图片 6145" descr=""/>
          <p:cNvPicPr/>
          <p:nvPr/>
        </p:nvPicPr>
        <p:blipFill>
          <a:blip r:embed="rId1"/>
          <a:stretch/>
        </p:blipFill>
        <p:spPr>
          <a:xfrm>
            <a:off x="1181160" y="1171440"/>
            <a:ext cx="678168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52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525" name="图片 7169" descr=""/>
          <p:cNvPicPr/>
          <p:nvPr/>
        </p:nvPicPr>
        <p:blipFill>
          <a:blip r:embed="rId1"/>
          <a:stretch/>
        </p:blipFill>
        <p:spPr>
          <a:xfrm>
            <a:off x="95400" y="1343160"/>
            <a:ext cx="8953200" cy="4171680"/>
          </a:xfrm>
          <a:prstGeom prst="rect">
            <a:avLst/>
          </a:prstGeom>
          <a:ln w="0">
            <a:noFill/>
          </a:ln>
        </p:spPr>
      </p:pic>
      <p:pic>
        <p:nvPicPr>
          <p:cNvPr id="1526" name="Picture 1" descr=""/>
          <p:cNvPicPr/>
          <p:nvPr/>
        </p:nvPicPr>
        <p:blipFill>
          <a:blip r:embed="rId2"/>
          <a:stretch/>
        </p:blipFill>
        <p:spPr>
          <a:xfrm>
            <a:off x="1403280" y="3241800"/>
            <a:ext cx="6048360" cy="44928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1" descr=""/>
          <p:cNvPicPr/>
          <p:nvPr/>
        </p:nvPicPr>
        <p:blipFill>
          <a:blip r:embed="rId3"/>
          <a:stretch/>
        </p:blipFill>
        <p:spPr>
          <a:xfrm>
            <a:off x="1403280" y="4941720"/>
            <a:ext cx="6048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2" dur="500"/>
                                        <p:tgtEl>
                                          <p:spTgt spid="1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7" dur="500"/>
                                        <p:tgtEl>
                                          <p:spTgt spid="1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530" name="图片 4097" descr=""/>
          <p:cNvPicPr/>
          <p:nvPr/>
        </p:nvPicPr>
        <p:blipFill>
          <a:blip r:embed="rId1"/>
          <a:stretch/>
        </p:blipFill>
        <p:spPr>
          <a:xfrm>
            <a:off x="438120" y="1414440"/>
            <a:ext cx="8267760" cy="4029120"/>
          </a:xfrm>
          <a:prstGeom prst="rect">
            <a:avLst/>
          </a:prstGeom>
          <a:ln w="0">
            <a:noFill/>
          </a:ln>
        </p:spPr>
      </p:pic>
      <p:pic>
        <p:nvPicPr>
          <p:cNvPr id="1531" name="Picture 1" descr=""/>
          <p:cNvPicPr/>
          <p:nvPr/>
        </p:nvPicPr>
        <p:blipFill>
          <a:blip r:embed="rId2"/>
          <a:stretch/>
        </p:blipFill>
        <p:spPr>
          <a:xfrm>
            <a:off x="1116000" y="3198960"/>
            <a:ext cx="7416720" cy="449280"/>
          </a:xfrm>
          <a:prstGeom prst="rect">
            <a:avLst/>
          </a:prstGeom>
          <a:ln w="0">
            <a:noFill/>
          </a:ln>
        </p:spPr>
      </p:pic>
      <p:pic>
        <p:nvPicPr>
          <p:cNvPr id="1532" name="Picture 1" descr=""/>
          <p:cNvPicPr/>
          <p:nvPr/>
        </p:nvPicPr>
        <p:blipFill>
          <a:blip r:embed="rId3"/>
          <a:stretch/>
        </p:blipFill>
        <p:spPr>
          <a:xfrm>
            <a:off x="900000" y="4897440"/>
            <a:ext cx="7417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4" dur="500"/>
                                        <p:tgtEl>
                                          <p:spTgt spid="1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9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434" name="图片 22529" descr=""/>
          <p:cNvPicPr/>
          <p:nvPr/>
        </p:nvPicPr>
        <p:blipFill>
          <a:blip r:embed="rId1"/>
          <a:stretch/>
        </p:blipFill>
        <p:spPr>
          <a:xfrm>
            <a:off x="523800" y="1319040"/>
            <a:ext cx="8096400" cy="4219920"/>
          </a:xfrm>
          <a:prstGeom prst="rect">
            <a:avLst/>
          </a:prstGeom>
          <a:ln w="0">
            <a:noFill/>
          </a:ln>
        </p:spPr>
      </p:pic>
      <p:pic>
        <p:nvPicPr>
          <p:cNvPr id="1435" name="Picture 1" descr=""/>
          <p:cNvPicPr/>
          <p:nvPr/>
        </p:nvPicPr>
        <p:blipFill>
          <a:blip r:embed="rId2"/>
          <a:stretch/>
        </p:blipFill>
        <p:spPr>
          <a:xfrm>
            <a:off x="2195640" y="2349360"/>
            <a:ext cx="1800000" cy="449280"/>
          </a:xfrm>
          <a:prstGeom prst="rect">
            <a:avLst/>
          </a:prstGeom>
          <a:ln w="0">
            <a:noFill/>
          </a:ln>
        </p:spPr>
      </p:pic>
      <p:pic>
        <p:nvPicPr>
          <p:cNvPr id="1436" name="Picture 1" descr=""/>
          <p:cNvPicPr/>
          <p:nvPr/>
        </p:nvPicPr>
        <p:blipFill>
          <a:blip r:embed="rId3"/>
          <a:stretch/>
        </p:blipFill>
        <p:spPr>
          <a:xfrm>
            <a:off x="2340000" y="3213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437" name="Picture 1" descr=""/>
          <p:cNvPicPr/>
          <p:nvPr/>
        </p:nvPicPr>
        <p:blipFill>
          <a:blip r:embed="rId4"/>
          <a:stretch/>
        </p:blipFill>
        <p:spPr>
          <a:xfrm>
            <a:off x="3635280" y="3213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438" name="Picture 1" descr=""/>
          <p:cNvPicPr/>
          <p:nvPr/>
        </p:nvPicPr>
        <p:blipFill>
          <a:blip r:embed="rId5"/>
          <a:stretch/>
        </p:blipFill>
        <p:spPr>
          <a:xfrm>
            <a:off x="2340000" y="4076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439" name="Picture 1" descr=""/>
          <p:cNvPicPr/>
          <p:nvPr/>
        </p:nvPicPr>
        <p:blipFill>
          <a:blip r:embed="rId6"/>
          <a:stretch/>
        </p:blipFill>
        <p:spPr>
          <a:xfrm>
            <a:off x="3794040" y="4091040"/>
            <a:ext cx="2592360" cy="449280"/>
          </a:xfrm>
          <a:prstGeom prst="rect">
            <a:avLst/>
          </a:prstGeom>
          <a:ln w="0">
            <a:noFill/>
          </a:ln>
        </p:spPr>
      </p:pic>
      <p:pic>
        <p:nvPicPr>
          <p:cNvPr id="1440" name="Picture 1" descr=""/>
          <p:cNvPicPr/>
          <p:nvPr/>
        </p:nvPicPr>
        <p:blipFill>
          <a:blip r:embed="rId7"/>
          <a:stretch/>
        </p:blipFill>
        <p:spPr>
          <a:xfrm>
            <a:off x="2124000" y="494172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1" descr=""/>
          <p:cNvPicPr/>
          <p:nvPr/>
        </p:nvPicPr>
        <p:blipFill>
          <a:blip r:embed="rId8"/>
          <a:stretch/>
        </p:blipFill>
        <p:spPr>
          <a:xfrm>
            <a:off x="3203640" y="491184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5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5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5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grpSp>
        <p:nvGrpSpPr>
          <p:cNvPr id="1535" name="组合 23555"/>
          <p:cNvGrpSpPr/>
          <p:nvPr/>
        </p:nvGrpSpPr>
        <p:grpSpPr>
          <a:xfrm>
            <a:off x="539640" y="2397240"/>
            <a:ext cx="7993080" cy="1360440"/>
            <a:chOff x="539640" y="2397240"/>
            <a:chExt cx="7993080" cy="1360440"/>
          </a:xfrm>
        </p:grpSpPr>
        <p:pic>
          <p:nvPicPr>
            <p:cNvPr id="1536" name="图片 23553" descr=""/>
            <p:cNvPicPr/>
            <p:nvPr/>
          </p:nvPicPr>
          <p:blipFill>
            <a:blip r:embed="rId1"/>
            <a:stretch/>
          </p:blipFill>
          <p:spPr>
            <a:xfrm>
              <a:off x="539640" y="2397240"/>
              <a:ext cx="6362640" cy="6001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7" name="图片 23554" descr=""/>
            <p:cNvPicPr/>
            <p:nvPr/>
          </p:nvPicPr>
          <p:blipFill>
            <a:blip r:embed="rId2"/>
            <a:stretch/>
          </p:blipFill>
          <p:spPr>
            <a:xfrm>
              <a:off x="865080" y="3100320"/>
              <a:ext cx="7667640" cy="657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38" name="Picture 1" descr=""/>
          <p:cNvPicPr/>
          <p:nvPr/>
        </p:nvPicPr>
        <p:blipFill>
          <a:blip r:embed="rId3"/>
          <a:stretch/>
        </p:blipFill>
        <p:spPr>
          <a:xfrm>
            <a:off x="1187280" y="3184560"/>
            <a:ext cx="57610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5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54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541" name="图片 24577" descr=""/>
          <p:cNvPicPr/>
          <p:nvPr/>
        </p:nvPicPr>
        <p:blipFill>
          <a:blip r:embed="rId1"/>
          <a:stretch/>
        </p:blipFill>
        <p:spPr>
          <a:xfrm>
            <a:off x="561960" y="919080"/>
            <a:ext cx="8020080" cy="5019840"/>
          </a:xfrm>
          <a:prstGeom prst="rect">
            <a:avLst/>
          </a:prstGeom>
          <a:ln w="0">
            <a:noFill/>
          </a:ln>
        </p:spPr>
      </p:pic>
      <p:pic>
        <p:nvPicPr>
          <p:cNvPr id="1542" name="Picture 1" descr=""/>
          <p:cNvPicPr/>
          <p:nvPr/>
        </p:nvPicPr>
        <p:blipFill>
          <a:blip r:embed="rId2"/>
          <a:stretch/>
        </p:blipFill>
        <p:spPr>
          <a:xfrm>
            <a:off x="1692360" y="4437000"/>
            <a:ext cx="576000" cy="449280"/>
          </a:xfrm>
          <a:prstGeom prst="rect">
            <a:avLst/>
          </a:prstGeom>
          <a:ln w="0">
            <a:noFill/>
          </a:ln>
        </p:spPr>
      </p:pic>
      <p:pic>
        <p:nvPicPr>
          <p:cNvPr id="1543" name="Picture 1" descr=""/>
          <p:cNvPicPr/>
          <p:nvPr/>
        </p:nvPicPr>
        <p:blipFill>
          <a:blip r:embed="rId3"/>
          <a:stretch/>
        </p:blipFill>
        <p:spPr>
          <a:xfrm>
            <a:off x="1692360" y="530064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3" dur="500"/>
                                        <p:tgtEl>
                                          <p:spTgt spid="15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8" dur="500"/>
                                        <p:tgtEl>
                                          <p:spTgt spid="15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54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546" name="图片 25601" descr=""/>
          <p:cNvPicPr/>
          <p:nvPr/>
        </p:nvPicPr>
        <p:blipFill>
          <a:blip r:embed="rId1"/>
          <a:stretch/>
        </p:blipFill>
        <p:spPr>
          <a:xfrm>
            <a:off x="237960" y="1824120"/>
            <a:ext cx="8668080" cy="3209760"/>
          </a:xfrm>
          <a:prstGeom prst="rect">
            <a:avLst/>
          </a:prstGeom>
          <a:ln w="0">
            <a:noFill/>
          </a:ln>
        </p:spPr>
      </p:pic>
      <p:pic>
        <p:nvPicPr>
          <p:cNvPr id="1547" name="Picture 1" descr=""/>
          <p:cNvPicPr/>
          <p:nvPr/>
        </p:nvPicPr>
        <p:blipFill>
          <a:blip r:embed="rId2"/>
          <a:stretch/>
        </p:blipFill>
        <p:spPr>
          <a:xfrm>
            <a:off x="611280" y="1916280"/>
            <a:ext cx="576000" cy="448920"/>
          </a:xfrm>
          <a:prstGeom prst="rect">
            <a:avLst/>
          </a:prstGeom>
          <a:ln w="0">
            <a:noFill/>
          </a:ln>
        </p:spPr>
      </p:pic>
      <p:pic>
        <p:nvPicPr>
          <p:cNvPr id="1548" name="Picture 1" descr=""/>
          <p:cNvPicPr/>
          <p:nvPr/>
        </p:nvPicPr>
        <p:blipFill>
          <a:blip r:embed="rId3"/>
          <a:stretch/>
        </p:blipFill>
        <p:spPr>
          <a:xfrm>
            <a:off x="611280" y="3645000"/>
            <a:ext cx="57600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15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0" dur="500"/>
                                        <p:tgtEl>
                                          <p:spTgt spid="15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5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551" name="图片 26625" descr=""/>
          <p:cNvPicPr/>
          <p:nvPr/>
        </p:nvPicPr>
        <p:blipFill>
          <a:blip r:embed="rId1"/>
          <a:stretch/>
        </p:blipFill>
        <p:spPr>
          <a:xfrm>
            <a:off x="33480" y="866880"/>
            <a:ext cx="9077040" cy="51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554" name="图片 27649" descr=""/>
          <p:cNvPicPr/>
          <p:nvPr/>
        </p:nvPicPr>
        <p:blipFill>
          <a:blip r:embed="rId1"/>
          <a:stretch/>
        </p:blipFill>
        <p:spPr>
          <a:xfrm>
            <a:off x="399960" y="1019160"/>
            <a:ext cx="8344080" cy="48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557" name="图片 28673" descr=""/>
          <p:cNvPicPr/>
          <p:nvPr/>
        </p:nvPicPr>
        <p:blipFill>
          <a:blip r:embed="rId1"/>
          <a:stretch/>
        </p:blipFill>
        <p:spPr>
          <a:xfrm>
            <a:off x="414360" y="853920"/>
            <a:ext cx="8315280" cy="5743800"/>
          </a:xfrm>
          <a:prstGeom prst="rect">
            <a:avLst/>
          </a:prstGeom>
          <a:ln w="0">
            <a:noFill/>
          </a:ln>
        </p:spPr>
      </p:pic>
      <p:pic>
        <p:nvPicPr>
          <p:cNvPr id="1558" name="Picture 1" descr=""/>
          <p:cNvPicPr/>
          <p:nvPr/>
        </p:nvPicPr>
        <p:blipFill>
          <a:blip r:embed="rId2"/>
          <a:stretch/>
        </p:blipFill>
        <p:spPr>
          <a:xfrm>
            <a:off x="755640" y="836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559" name="Picture 1" descr=""/>
          <p:cNvPicPr/>
          <p:nvPr/>
        </p:nvPicPr>
        <p:blipFill>
          <a:blip r:embed="rId3"/>
          <a:stretch/>
        </p:blipFill>
        <p:spPr>
          <a:xfrm>
            <a:off x="755640" y="1700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560" name="Picture 1" descr=""/>
          <p:cNvPicPr/>
          <p:nvPr/>
        </p:nvPicPr>
        <p:blipFill>
          <a:blip r:embed="rId4"/>
          <a:stretch/>
        </p:blipFill>
        <p:spPr>
          <a:xfrm>
            <a:off x="755640" y="256536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561" name="Picture 1" descr=""/>
          <p:cNvPicPr/>
          <p:nvPr/>
        </p:nvPicPr>
        <p:blipFill>
          <a:blip r:embed="rId5"/>
          <a:stretch/>
        </p:blipFill>
        <p:spPr>
          <a:xfrm>
            <a:off x="755640" y="4221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562" name="Picture 1" descr=""/>
          <p:cNvPicPr/>
          <p:nvPr/>
        </p:nvPicPr>
        <p:blipFill>
          <a:blip r:embed="rId6"/>
          <a:stretch/>
        </p:blipFill>
        <p:spPr>
          <a:xfrm>
            <a:off x="755640" y="5143680"/>
            <a:ext cx="57636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7" dur="500"/>
                                        <p:tgtEl>
                                          <p:spTgt spid="15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7" dur="500"/>
                                        <p:tgtEl>
                                          <p:spTgt spid="15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2" dur="500"/>
                                        <p:tgtEl>
                                          <p:spTgt spid="15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7" dur="500"/>
                                        <p:tgtEl>
                                          <p:spTgt spid="15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444" name="图片 21505" descr=""/>
          <p:cNvPicPr/>
          <p:nvPr/>
        </p:nvPicPr>
        <p:blipFill>
          <a:blip r:embed="rId1"/>
          <a:stretch/>
        </p:blipFill>
        <p:spPr>
          <a:xfrm>
            <a:off x="652320" y="2666880"/>
            <a:ext cx="7839360" cy="1524240"/>
          </a:xfrm>
          <a:prstGeom prst="rect">
            <a:avLst/>
          </a:prstGeom>
          <a:ln w="0">
            <a:noFill/>
          </a:ln>
        </p:spPr>
      </p:pic>
      <p:pic>
        <p:nvPicPr>
          <p:cNvPr id="1445" name="Picture 1" descr=""/>
          <p:cNvPicPr/>
          <p:nvPr/>
        </p:nvPicPr>
        <p:blipFill>
          <a:blip r:embed="rId2"/>
          <a:stretch/>
        </p:blipFill>
        <p:spPr>
          <a:xfrm>
            <a:off x="1692360" y="2795760"/>
            <a:ext cx="576000" cy="448920"/>
          </a:xfrm>
          <a:prstGeom prst="rect">
            <a:avLst/>
          </a:prstGeom>
          <a:ln w="0">
            <a:noFill/>
          </a:ln>
        </p:spPr>
      </p:pic>
      <p:pic>
        <p:nvPicPr>
          <p:cNvPr id="1446" name="Picture 1" descr=""/>
          <p:cNvPicPr/>
          <p:nvPr/>
        </p:nvPicPr>
        <p:blipFill>
          <a:blip r:embed="rId3"/>
          <a:stretch/>
        </p:blipFill>
        <p:spPr>
          <a:xfrm>
            <a:off x="2843280" y="2824200"/>
            <a:ext cx="3889440" cy="449280"/>
          </a:xfrm>
          <a:prstGeom prst="rect">
            <a:avLst/>
          </a:prstGeom>
          <a:ln w="0">
            <a:noFill/>
          </a:ln>
        </p:spPr>
      </p:pic>
      <p:pic>
        <p:nvPicPr>
          <p:cNvPr id="1447" name="Picture 1" descr=""/>
          <p:cNvPicPr/>
          <p:nvPr/>
        </p:nvPicPr>
        <p:blipFill>
          <a:blip r:embed="rId4"/>
          <a:stretch/>
        </p:blipFill>
        <p:spPr>
          <a:xfrm>
            <a:off x="1763640" y="3659040"/>
            <a:ext cx="1656000" cy="449280"/>
          </a:xfrm>
          <a:prstGeom prst="rect">
            <a:avLst/>
          </a:prstGeom>
          <a:ln w="0">
            <a:noFill/>
          </a:ln>
        </p:spPr>
      </p:pic>
      <p:pic>
        <p:nvPicPr>
          <p:cNvPr id="1448" name="Picture 1" descr=""/>
          <p:cNvPicPr/>
          <p:nvPr/>
        </p:nvPicPr>
        <p:blipFill>
          <a:blip r:embed="rId5"/>
          <a:stretch/>
        </p:blipFill>
        <p:spPr>
          <a:xfrm>
            <a:off x="4500720" y="3659040"/>
            <a:ext cx="273528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1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5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8" dur="500"/>
                                        <p:tgtEl>
                                          <p:spTgt spid="14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451" name="图片 20481" descr=""/>
          <p:cNvPicPr/>
          <p:nvPr/>
        </p:nvPicPr>
        <p:blipFill>
          <a:blip r:embed="rId1"/>
          <a:stretch/>
        </p:blipFill>
        <p:spPr>
          <a:xfrm>
            <a:off x="371520" y="876240"/>
            <a:ext cx="8400960" cy="5105520"/>
          </a:xfrm>
          <a:prstGeom prst="rect">
            <a:avLst/>
          </a:prstGeom>
          <a:ln w="0">
            <a:noFill/>
          </a:ln>
        </p:spPr>
      </p:pic>
      <p:pic>
        <p:nvPicPr>
          <p:cNvPr id="1452" name="Picture 1" descr=""/>
          <p:cNvPicPr/>
          <p:nvPr/>
        </p:nvPicPr>
        <p:blipFill>
          <a:blip r:embed="rId2"/>
          <a:stretch/>
        </p:blipFill>
        <p:spPr>
          <a:xfrm>
            <a:off x="1476360" y="198900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453" name="Picture 1" descr=""/>
          <p:cNvPicPr/>
          <p:nvPr/>
        </p:nvPicPr>
        <p:blipFill>
          <a:blip r:embed="rId3"/>
          <a:stretch/>
        </p:blipFill>
        <p:spPr>
          <a:xfrm>
            <a:off x="1476360" y="422100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4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455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456" name="图片 8193" descr=""/>
          <p:cNvPicPr/>
          <p:nvPr/>
        </p:nvPicPr>
        <p:blipFill>
          <a:blip r:embed="rId1"/>
          <a:stretch/>
        </p:blipFill>
        <p:spPr>
          <a:xfrm>
            <a:off x="828720" y="1314360"/>
            <a:ext cx="7486560" cy="4229280"/>
          </a:xfrm>
          <a:prstGeom prst="rect">
            <a:avLst/>
          </a:prstGeom>
          <a:ln w="0">
            <a:noFill/>
          </a:ln>
        </p:spPr>
      </p:pic>
      <p:pic>
        <p:nvPicPr>
          <p:cNvPr id="1457" name="Picture 1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458" name="Picture 1" descr=""/>
          <p:cNvPicPr/>
          <p:nvPr/>
        </p:nvPicPr>
        <p:blipFill>
          <a:blip r:embed="rId3"/>
          <a:stretch/>
        </p:blipFill>
        <p:spPr>
          <a:xfrm>
            <a:off x="1187280" y="371628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500"/>
                                        <p:tgtEl>
                                          <p:spTgt spid="14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9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460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461" name="图片 9217" descr=""/>
          <p:cNvPicPr/>
          <p:nvPr/>
        </p:nvPicPr>
        <p:blipFill>
          <a:blip r:embed="rId1"/>
          <a:stretch/>
        </p:blipFill>
        <p:spPr>
          <a:xfrm>
            <a:off x="690480" y="2409840"/>
            <a:ext cx="7763040" cy="2038320"/>
          </a:xfrm>
          <a:prstGeom prst="rect">
            <a:avLst/>
          </a:prstGeom>
          <a:ln w="0">
            <a:noFill/>
          </a:ln>
        </p:spPr>
      </p:pic>
      <p:pic>
        <p:nvPicPr>
          <p:cNvPr id="1462" name="Picture 1" descr=""/>
          <p:cNvPicPr/>
          <p:nvPr/>
        </p:nvPicPr>
        <p:blipFill>
          <a:blip r:embed="rId2"/>
          <a:stretch/>
        </p:blipFill>
        <p:spPr>
          <a:xfrm>
            <a:off x="971640" y="2565360"/>
            <a:ext cx="64764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5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465" name="图片 10241" descr=""/>
          <p:cNvPicPr/>
          <p:nvPr/>
        </p:nvPicPr>
        <p:blipFill>
          <a:blip r:embed="rId1"/>
          <a:stretch/>
        </p:blipFill>
        <p:spPr>
          <a:xfrm>
            <a:off x="571680" y="1766880"/>
            <a:ext cx="8001000" cy="3324240"/>
          </a:xfrm>
          <a:prstGeom prst="rect">
            <a:avLst/>
          </a:prstGeom>
          <a:ln w="0">
            <a:noFill/>
          </a:ln>
        </p:spPr>
      </p:pic>
      <p:pic>
        <p:nvPicPr>
          <p:cNvPr id="1466" name="Picture 1" descr=""/>
          <p:cNvPicPr/>
          <p:nvPr/>
        </p:nvPicPr>
        <p:blipFill>
          <a:blip r:embed="rId2"/>
          <a:stretch/>
        </p:blipFill>
        <p:spPr>
          <a:xfrm>
            <a:off x="1619280" y="292428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7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468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469" name="图片 12289" descr=""/>
          <p:cNvPicPr/>
          <p:nvPr/>
        </p:nvPicPr>
        <p:blipFill>
          <a:blip r:embed="rId1"/>
          <a:stretch/>
        </p:blipFill>
        <p:spPr>
          <a:xfrm>
            <a:off x="900000" y="1843200"/>
            <a:ext cx="7344000" cy="3171600"/>
          </a:xfrm>
          <a:prstGeom prst="rect">
            <a:avLst/>
          </a:prstGeom>
          <a:ln w="0">
            <a:noFill/>
          </a:ln>
        </p:spPr>
      </p:pic>
      <p:pic>
        <p:nvPicPr>
          <p:cNvPr id="1470" name="Picture 1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576360" cy="44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4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1716120" y="2141640"/>
            <a:ext cx="5672160" cy="13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zh-CN" sz="4500" spc="-1" strike="noStrike">
              <a:solidFill>
                <a:srgbClr val="50a6a4"/>
              </a:solidFill>
              <a:latin typeface="Arial"/>
              <a:ea typeface="汉仪乐喵体W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 type="subTitle"/>
          </p:nvPr>
        </p:nvSpPr>
        <p:spPr>
          <a:xfrm>
            <a:off x="1716120" y="3576600"/>
            <a:ext cx="5672160" cy="1193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zh-CN" sz="1800" spc="-1" strike="noStrike">
              <a:solidFill>
                <a:srgbClr val="262626"/>
              </a:solidFill>
              <a:latin typeface="Arial"/>
              <a:ea typeface="幼圆"/>
            </a:endParaRPr>
          </a:p>
        </p:txBody>
      </p:sp>
      <p:pic>
        <p:nvPicPr>
          <p:cNvPr id="1473" name="图片 11265" descr=""/>
          <p:cNvPicPr/>
          <p:nvPr/>
        </p:nvPicPr>
        <p:blipFill>
          <a:blip r:embed="rId1"/>
          <a:stretch/>
        </p:blipFill>
        <p:spPr>
          <a:xfrm>
            <a:off x="638280" y="1023840"/>
            <a:ext cx="7867440" cy="4810320"/>
          </a:xfrm>
          <a:prstGeom prst="rect">
            <a:avLst/>
          </a:prstGeom>
          <a:ln w="0">
            <a:noFill/>
          </a:ln>
        </p:spPr>
      </p:pic>
      <p:pic>
        <p:nvPicPr>
          <p:cNvPr id="1474" name="Picture 1" descr=""/>
          <p:cNvPicPr/>
          <p:nvPr/>
        </p:nvPicPr>
        <p:blipFill>
          <a:blip r:embed="rId2"/>
          <a:stretch/>
        </p:blipFill>
        <p:spPr>
          <a:xfrm>
            <a:off x="1042920" y="1052640"/>
            <a:ext cx="576360" cy="449280"/>
          </a:xfrm>
          <a:prstGeom prst="rect">
            <a:avLst/>
          </a:prstGeom>
          <a:ln w="0">
            <a:noFill/>
          </a:ln>
        </p:spPr>
      </p:pic>
      <p:pic>
        <p:nvPicPr>
          <p:cNvPr id="1475" name="Picture 1" descr=""/>
          <p:cNvPicPr/>
          <p:nvPr/>
        </p:nvPicPr>
        <p:blipFill>
          <a:blip r:embed="rId3"/>
          <a:stretch/>
        </p:blipFill>
        <p:spPr>
          <a:xfrm>
            <a:off x="1042920" y="3573360"/>
            <a:ext cx="576360" cy="44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0" dur="5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5" dur="5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52:26Z</dcterms:created>
  <dc:creator>未知用户</dc:creator>
  <dc:description/>
  <dc:language>en-US</dc:language>
  <cp:lastModifiedBy>万润仪器贸易公司</cp:lastModifiedBy>
  <dcterms:modified xsi:type="dcterms:W3CDTF">2020-08-14T09:40:20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